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9B9-B314-4F6D-8F7A-4A070DC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7AB-8869-4A37-B3B4-AF231BBF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EC3-EDE5-4C16-998A-B7CF89B2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2FF-FF02-4056-A2A2-1CDE5B1F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EF4-DE37-46E0-A3E7-7C4FF785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6DD-7EED-4F28-8D60-4C1359DF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30E-E3DC-44F3-B873-65F7175B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01F-9DC6-4E9F-9B86-45ECD7F9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FE1-94CE-4391-8FA0-A244413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1C5-B87E-426E-97A1-C228A5C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C0B-411C-4A92-A638-C7CDBF2C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842-5C3E-4B6E-A280-E6E833D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5432-E5B2-4A11-91C5-1F0F47938B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1A Linear inequa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Just as linear equations have two forms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Linear inequations  also have two forms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3143160" y="2357280"/>
          <a:ext cx="178596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357280"/>
                    <a:ext cx="178596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3"/>
          <p:cNvGraphicFramePr/>
          <p:nvPr/>
        </p:nvGraphicFramePr>
        <p:xfrm>
          <a:off x="3286080" y="4572000"/>
          <a:ext cx="173376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4572000"/>
                    <a:ext cx="17337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Graphing a linear inequat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teps for graphing a linear inequation are the same as for linear equations, but with one extra step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graph of a linear equation is a straight line. The graph of a linear inequation is 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region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or 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half-plane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emporarily treat the inequation as an equation to find the boundary of the region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478080" indent="-478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Find two points using the equation to graph the boundary. The two points should be reasonably far apart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478080" indent="-478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Plot the two points from Step 2 and join them with a straight line. Extend the line. If the inequations are &lt; or &gt; use a dotted line. If they are              use a solid line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478080" indent="-478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Shade in a region either above or below the line depending on the inequation sign. The convention is to shade the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not required.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ny point in the shaded region is not a solution to the inequation. The unshaded region is called the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solution region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or </a:t>
            </a: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feasible region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478080" indent="-478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mbria Math"/>
              </a:rPr>
              <a:t>NOTE: Your calculator will shade the solution region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1428840" y="3357720"/>
          <a:ext cx="10000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3357720"/>
                    <a:ext cx="10000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: Ex 11A, Q.1, 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: Ex 11A, Q. 2b, d, 4, 5, 8, 9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1:21:40Z</dcterms:created>
  <dc:creator>08843474</dc:creator>
  <dc:description/>
  <dc:language>en-US</dc:language>
  <cp:lastModifiedBy>08843474</cp:lastModifiedBy>
  <dcterms:modified xsi:type="dcterms:W3CDTF">2011-06-16T01:49:07Z</dcterms:modified>
  <cp:revision>2</cp:revision>
  <dc:subject/>
  <dc:title>11A Linear inequations</dc:title>
</cp:coreProperties>
</file>